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F217-E765-4611-9E65-55B6EEB8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8D7-9818-4B16-8EE2-6C55005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755-3206-454E-9748-8FA64EEA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73B-6A96-44B2-9FAC-FF00A041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104-A1D6-4664-B8FD-A5E705CE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1AF-31D8-426C-A196-EB83E02B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552-B27A-4D2E-BA6E-D11A685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7BD-794A-4477-BFB1-1092FFC9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1D9-FD6C-45A3-864A-D8699208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D54-CBD5-4B17-B401-FED728B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111-0130-4C65-9128-0E6FBA1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956-DA13-4188-8B19-3AB248B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E391-6A20-452A-8EAF-72B8C8D83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432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360" y="134640"/>
            <a:ext cx="62276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       </a:t>
            </a: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72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Ранен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във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кръв потъ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тръни на гл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подсмих Той е стана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хорската мълв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о друго Му остав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свен срам и позор?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ъй - хулен и без слава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е мил на моя взо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7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03200" y="117360"/>
            <a:ext cx="574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горест без отрад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з хулни вик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, Господи, пострад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за мойте грехове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и Си мой Спасител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и мойто място взе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ето ме просител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Твоите ноз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547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01640" y="190440"/>
            <a:ext cx="65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 лице от радост сияй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крия си чело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във Твойто в кръв обляно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ободено тело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Тебе да просл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, верен Теб докрай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аз смърт аз да забравя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, Боже мой, не д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55:36Z</dcterms:created>
  <dc:creator>TrifonTrifonow</dc:creator>
  <dc:description/>
  <dc:language>en-US</dc:language>
  <cp:lastModifiedBy>TrifonTrifonow</cp:lastModifiedBy>
  <dcterms:modified xsi:type="dcterms:W3CDTF">2005-11-23T19:09:56Z</dcterms:modified>
  <cp:revision>5</cp:revision>
  <dc:subject/>
  <dc:title>Slide 1</dc:title>
</cp:coreProperties>
</file>